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791-C5DA-4581-94F1-475912C1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12D-8697-412C-8231-B7FA56C9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155-1195-4602-A254-5D18078B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BD9-56CF-4AE5-BB68-950462D0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0BB-13BA-462F-8DF6-6C6499D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36B-F311-4559-8DFF-538B3EBA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648-ACBC-44E1-A5B0-7089E71F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C21-1374-449D-9DE2-CF40BEB1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4E7-24B7-4D5A-997A-DFC9700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6FD-DAF4-47A6-BE1D-8075105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82A-58A8-4C04-9FBC-52C3F6F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7C9-F995-467B-8536-FCE63D2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576E-20C8-4D0B-8B3E-69ABAF82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m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mom I love you very much love 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4876920"/>
            <a:ext cx="852480" cy="90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1785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48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nice you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you are very nice and sweet I love you love Chl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1631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38:47Z</dcterms:created>
  <dc:creator>student</dc:creator>
  <dc:description/>
  <dc:language>en-US</dc:language>
  <cp:lastModifiedBy>student</cp:lastModifiedBy>
  <dcterms:modified xsi:type="dcterms:W3CDTF">2010-10-14T18:05:16Z</dcterms:modified>
  <cp:revision>2</cp:revision>
  <dc:subject/>
  <dc:title>Chloe</dc:title>
</cp:coreProperties>
</file>